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DFB-4F4E-48F6-841D-71A560FD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4E0-83A2-40B5-8FE5-E2848BCD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09C-A3E6-4F7F-854F-40E0C40B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052-DCDB-4B68-8679-107B0E6D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86B-BF4F-42DC-80D3-D943E72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8C1-6D73-4F91-9317-69F76843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9E7-684E-4620-928D-7426EEF2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0E4-933F-4D56-B694-C63BCA67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BAE-E83B-4D62-8E70-C1491E15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CF9-2ABC-4333-9498-0120FCB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715-B6CB-41A8-A56E-BBF2846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7C5-581B-402A-B86A-3CD7FBA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5FC0-090E-44EE-A09F-6BE90BF3B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R, WE WOULD SEE JESU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-Life of Christ-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rter 9, Lesson 1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t. 5-7; Luke 6:17-49;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ges 47-5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atitud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. 5:3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poor in spirit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y that mourn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meek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y which do hunger and thirst after righteousness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merciful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pure in heart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peacemakers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atitud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. 5:3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y which are persecuted for righteousness sake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ye, when men shall revile you, and persecute you and shall say all manner of evil against you falsely, for my sake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joice and be exceedingly glad for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RM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N THE MOUNT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. 5-7; Luke 6:17-4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905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rded in Matthew and Luk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 to the place where event took place, there is no contradi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ding a level spot on the mountain, Jesus began to te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“beatitudes” are a famous part of the serm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atitude means ____?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RM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 THE MOUNT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. 5-7; Luke 6:17-4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beatitudes describes the character each disciple of the Lord should ha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ecutions will come—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istians should not be turned away by persecutions but rejo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ok for the heavenly rewar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llowers of Go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e different from the worl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LESSONS OF CHRIS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ist came not to destroy but to fulfill the la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rder begins in the hea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lust after a woman is to commit adultery in one’s hea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ship should be offered to G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n’t do charitable deeds to be seen of me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LESSONS OF CHRIS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treasures on earth and treasures in heave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one can serve two mast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n’t worry about life or what you’ll eat or drin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udge righteously not hypocritical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ve your enemies, be mercifu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obey Christ is like unto building one’s house on a r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5:29:50Z</dcterms:created>
  <dc:creator>billy lauderdale</dc:creator>
  <dc:description/>
  <dc:language>en-US</dc:language>
  <cp:lastModifiedBy>Frank D Vines</cp:lastModifiedBy>
  <dcterms:modified xsi:type="dcterms:W3CDTF">2006-05-14T12:48:59Z</dcterms:modified>
  <cp:revision>12</cp:revision>
  <dc:subject/>
  <dc:title>SIR, WE WOULD SEE JESUS -Life of Christ-</dc:title>
</cp:coreProperties>
</file>